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7.wmf" ContentType="image/x-wmf"/>
  <Override PartName="/ppt/media/image16.png" ContentType="image/png"/>
  <Override PartName="/ppt/media/image26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E7AD-1BFE-4371-97E8-1761A225E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E2AC-E3C5-4F4D-8350-E493F91D2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8C06-1844-45D9-9D44-D286A045D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0E76-1D11-41E4-9EDF-FCD4A5132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044C-36C4-46B8-B493-5BC5F6EE5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71A2-2AE0-4051-B795-173C42132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hemical bond in which electrons are transferred from one atom to another is called an ionic bon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compound sodium chloride forms when sodium loses its valence electron to chlor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510D-8C37-4DF1-B554-A5617CEF2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FBB4-30A5-4599-BCF5-11A4B9C62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47FA-BEA7-425B-9D33-B66A500F0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3D56-78E2-4EE7-8FAA-694845D3E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174F-DF15-4E43-B24A-D52CACAC7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64FE-E4D4-41A2-B936-8EEDCB95E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88C7-B2A5-48FD-94C3-BDCB5C727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lium atoms contain protons, neutrons, and electron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positively charged protons and uncharged neutrons are bound together in the dense nucleus, while the negatively charged electrons move in the space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945C-EBAA-4A82-93D0-BC3E9069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84D9-34E3-4FB2-B15B-21CFD554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8FC-1A39-4F95-B55B-1A3ED10E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F7A8-7F27-450E-8CDC-724C6C1F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07A9-6814-46FA-A04A-4EB26DCB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8D7C-2E8E-4109-AE72-BE207B76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347D-C0A2-420E-8F8F-4CDA46E7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8EE5-1EC5-402E-B038-E7C3BC7E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9458-8AFC-4F63-B17C-5218AF83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77DF-F69B-4AC2-820C-47A2BA99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DD93-B3A4-4FB8-BD65-8A21E061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ABD0-BAC0-40EE-9145-BE9BB970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4297-B6A7-4400-B62B-A0836F51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0D76-6E95-437A-B251-B7261A9D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E6F6-484C-4F08-AA8F-6197DB23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ED3B-24F8-41D2-A46E-30B409B9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C07C-32D2-412D-83CD-3EB3C202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33298-E0F5-403C-A3C8-75352F75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75CA1-349F-44F8-90FA-A3C20E82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225C6-0F37-4C11-88D4-F168BE98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B925E-E3A4-49E7-85C5-91B992E5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A2712-6231-48FE-85BC-3B644341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FF8A-90C5-4428-989E-DF598546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9A21D-B3E9-45AD-808D-88C1DE3D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D66F0-5DAC-49D4-B435-56B8DAD0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EC3E0-9C76-4F88-83AB-92B93B96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B9A66-50BD-465A-A310-DDC0006A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92BF7-B068-44E6-AAE9-3D21987C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C5C43-8432-4FE3-949D-0D1D3581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491CC-9E4B-4A30-90ED-10ADFC7C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59A86-A44D-4D05-A819-F3D20508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DCBE5-3EF4-445B-B903-DE6A57F2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49BBF-6ACF-4A56-9889-E53D2293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DD31-59D7-4BD1-85B4-EBA6AEAB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669F5-F072-4B96-807C-40D12B71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528B4-5764-40D0-B1AC-E477E872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84D5B-DB1E-4F7D-BDCA-0E36932B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4F222-8DB7-4703-8D67-F2C5B48D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302EE-B421-4BDE-9602-7049F4B8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12D1E-9D76-4C0A-AB6A-D60F74A1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F6625-7642-4213-B32D-3F1CE161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56A15-F07C-4783-A3AE-B5AC82EB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A4F45-5132-4A76-BC43-F9C55815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7BA49-7B64-4310-9916-070D292E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2F47-DEE3-454B-9A8F-FF669DF7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DF809-13EC-4807-8D59-4E154234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ABD8E-696A-4239-9BFB-0E4C1AE2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19476-77C8-4A6D-BD99-22879B0E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185F3-9A88-4685-ACD0-DCE602CF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47D37-9D59-4C09-A30C-958ADB50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60E2C-D095-49E6-889C-885B4E33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E1E9A-CD41-4C50-816E-2BB9D968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5A651-0713-459F-A307-2DF0917E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D5920-404B-45C7-883C-01D92DB8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2B4C6-7E51-4AB8-8564-C7484D91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6D07-A945-4C45-BAFB-260F6627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0940D-2259-4659-A2E8-12E07089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28375-BAB9-44DA-A1E8-C8577A78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A0EA9-F2A0-428E-8319-1FB0DFF9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FF93A-63F9-4D7D-AA9A-924F059C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8EF30-C79B-4382-9F19-34BF93E5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86E94-8054-4684-BFE9-BAEC2350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E0EC5-8345-4AAA-88DC-CD94F655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A4F0F-4748-4B10-B2C2-EAC8D291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20D7A-584E-4425-BBCF-07C28DB3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26C58-609F-458C-9828-5B1330C2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ADFC-AD58-4E48-A9E5-1F7B1115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FA48E-3AB2-4030-BA79-7E0C8400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24033-C828-4B1D-9CBB-F31ED49C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EAA25-7171-4DB3-B0ED-DA8EEFA4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C70B2-47D7-4880-AF84-3F263909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B53D0-F5DC-475B-843A-85E4D1BA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85932-B00E-4C49-8390-83767AF7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487F0-1801-4F1D-99FC-6969CF34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40503-0681-415D-9CDB-8F4848E4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DE023-98D2-4C6E-898E-9A2C5AB5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879C8-EED1-4991-909B-4F3DC9ED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0BE-375B-4AC7-94F4-91FAC907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C23FB-3CAF-40DF-89B0-16FA7226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44857-7DFE-46C6-AD1D-114C53BA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EFB3C-CB1E-4001-B48D-D431EFE5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F52ED-A096-4384-AFFB-FD6C1EF8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31ADC-824B-47C6-9507-0F7305BE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7E96D-58A4-4F00-A56D-5AB20D8A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795EF-88BB-4C68-9654-69886AFC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2003F-1260-4C90-A163-E1D27001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E59A4-D727-4B9F-9AD3-D23888F8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7A98C-5BB8-430F-890B-56B46722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82ED-390C-4473-A072-71C4D9B5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D450F-FB19-4DF0-BCAD-29C49389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8C930-4349-494B-BA99-1AA3BF30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4277D-EEC5-4871-A515-755A9380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9E862-BFC9-4D66-9C01-39D89AF1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4D095-A77E-4B27-B49A-F8EC680D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C7B0B-AF79-4D8F-9942-1E119CC2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53785-0A40-4C66-BE08-0B25015B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outine copy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827360" y="-360"/>
            <a:ext cx="7316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spcAft>
                <a:spcPts val="2500"/>
              </a:spcAft>
              <a:buClr>
                <a:srgbClr val="a5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1" marL="157680" indent="93240">
              <a:spcAft>
                <a:spcPts val="2500"/>
              </a:spcAft>
              <a:buClr>
                <a:srgbClr val="006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Second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2" marL="220680" indent="281880"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Third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3" marL="283680" indent="283680">
              <a:spcAft>
                <a:spcPts val="25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Fourth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4" marL="662400" indent="33120">
              <a:spcAft>
                <a:spcPts val="2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Fifth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5" marL="662400" indent="33120">
              <a:spcAft>
                <a:spcPts val="2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Sixth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6" marL="662400" indent="33120">
              <a:spcAft>
                <a:spcPts val="2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Seventh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1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6" descr="logo_ph"/>
          <p:cNvPicPr/>
          <p:nvPr/>
        </p:nvPicPr>
        <p:blipFill>
          <a:blip r:embed="rId4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12" name="Rectangle 18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0534-D84C-4878-B267-A86F2CECF7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0" descr="outine copy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272880" y="1095480"/>
            <a:ext cx="88711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spcBef>
                <a:spcPts val="4000"/>
              </a:spcBef>
              <a:spcAft>
                <a:spcPts val="2999"/>
              </a:spcAft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615240" indent="-381960">
              <a:spcBef>
                <a:spcPts val="4000"/>
              </a:spcBef>
              <a:spcAft>
                <a:spcPts val="2999"/>
              </a:spcAft>
              <a:buClr>
                <a:srgbClr val="006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794160" indent="-12060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852120" indent="-15264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0"/>
              </a:spcBef>
              <a:spcAft>
                <a:spcPts val="29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1778400" y="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-1 The Nature of Mat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7" descr="arrow"/>
          <p:cNvPicPr/>
          <p:nvPr/>
        </p:nvPicPr>
        <p:blipFill>
          <a:blip r:embed="rId4"/>
          <a:stretch/>
        </p:blipFill>
        <p:spPr>
          <a:xfrm>
            <a:off x="457344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key"/>
          <p:cNvPicPr/>
          <p:nvPr/>
        </p:nvPicPr>
        <p:blipFill>
          <a:blip r:embed="rId5"/>
          <a:stretch/>
        </p:blipFill>
        <p:spPr>
          <a:xfrm>
            <a:off x="635040" y="2397240"/>
            <a:ext cx="671400" cy="433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5"/>
          <p:cNvSpPr>
            <a:spLocks noGrp="1"/>
          </p:cNvSpPr>
          <p:nvPr>
            <p:ph type="title"/>
          </p:nvPr>
        </p:nvSpPr>
        <p:spPr>
          <a:xfrm>
            <a:off x="491328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4" name="Picture 21" descr="logo_ph"/>
          <p:cNvPicPr/>
          <p:nvPr/>
        </p:nvPicPr>
        <p:blipFill>
          <a:blip r:embed="rId6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2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2B88-DF98-47A1-AB2F-70FCFE40C4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8" descr="outine copy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72880" y="1095480"/>
            <a:ext cx="88711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spcBef>
                <a:spcPts val="4000"/>
              </a:spcBef>
              <a:spcAft>
                <a:spcPts val="2999"/>
              </a:spcAft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615240" indent="-38196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794160" indent="-12060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852120" indent="-15264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8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9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0"/>
              </a:spcBef>
              <a:spcAft>
                <a:spcPts val="29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5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1778400" y="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-1 The Nature of Mat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7" descr="arrow"/>
          <p:cNvPicPr/>
          <p:nvPr/>
        </p:nvPicPr>
        <p:blipFill>
          <a:blip r:embed="rId4"/>
          <a:stretch/>
        </p:blipFill>
        <p:spPr>
          <a:xfrm>
            <a:off x="457056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key"/>
          <p:cNvPicPr/>
          <p:nvPr/>
        </p:nvPicPr>
        <p:blipFill>
          <a:blip r:embed="rId5"/>
          <a:stretch/>
        </p:blipFill>
        <p:spPr>
          <a:xfrm>
            <a:off x="622440" y="2400480"/>
            <a:ext cx="672840" cy="434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5"/>
          <p:cNvSpPr>
            <a:spLocks noGrp="1"/>
          </p:cNvSpPr>
          <p:nvPr>
            <p:ph type="title"/>
          </p:nvPr>
        </p:nvSpPr>
        <p:spPr>
          <a:xfrm>
            <a:off x="4908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17" name="Picture 29" descr="logo_ph"/>
          <p:cNvPicPr/>
          <p:nvPr/>
        </p:nvPicPr>
        <p:blipFill>
          <a:blip r:embed="rId6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1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F1B6-84E3-4A4A-9160-835DE711E4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9" descr="outine copy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08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Aft>
                <a:spcPts val="2001"/>
              </a:spcAft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09800" indent="328680">
              <a:spcAft>
                <a:spcPts val="2001"/>
              </a:spcAft>
              <a:buClr>
                <a:srgbClr val="006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275760" indent="4320"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877680" indent="-222480">
              <a:spcAft>
                <a:spcPts val="2001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001"/>
              </a:spcAft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1778400" y="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-1 The Nature of Mat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7" descr="arrow"/>
          <p:cNvPicPr/>
          <p:nvPr/>
        </p:nvPicPr>
        <p:blipFill>
          <a:blip r:embed="rId4"/>
          <a:stretch/>
        </p:blipFill>
        <p:spPr>
          <a:xfrm>
            <a:off x="457056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0" descr="logo_ph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1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0230-38FC-48D8-87B5-3745894A30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outine copy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08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342720"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7800" indent="-236520">
              <a:spcAft>
                <a:spcPts val="174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231480">
              <a:spcAft>
                <a:spcPts val="174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089000" indent="3240">
              <a:spcAft>
                <a:spcPts val="1749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089000" indent="3240">
              <a:spcAft>
                <a:spcPts val="1749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089000" indent="3240">
              <a:spcAft>
                <a:spcPts val="1749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4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1778400" y="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-1 The Nature of Mat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6" descr="arrow"/>
          <p:cNvPicPr/>
          <p:nvPr/>
        </p:nvPicPr>
        <p:blipFill>
          <a:blip r:embed="rId4"/>
          <a:stretch/>
        </p:blipFill>
        <p:spPr>
          <a:xfrm>
            <a:off x="457056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7" descr="logo_ph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8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CEFB-89D0-45F0-AAB4-7EE201E00D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outine copy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08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Aft>
                <a:spcPts val="2001"/>
              </a:spcAft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09800" indent="328680">
              <a:spcAft>
                <a:spcPts val="2001"/>
              </a:spcAft>
              <a:buClr>
                <a:srgbClr val="006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83760" indent="493560"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877680" indent="-222480">
              <a:spcAft>
                <a:spcPts val="2001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1778400" y="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-1 The Nature of Mat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6" descr="arrow"/>
          <p:cNvPicPr/>
          <p:nvPr/>
        </p:nvPicPr>
        <p:blipFill>
          <a:blip r:embed="rId4"/>
          <a:stretch/>
        </p:blipFill>
        <p:spPr>
          <a:xfrm>
            <a:off x="457056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7" descr="logo_ph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9" descr="Process_art_ARROWS copy"/>
          <p:cNvPicPr/>
          <p:nvPr/>
        </p:nvPicPr>
        <p:blipFill>
          <a:blip r:embed="rId6"/>
          <a:stretch/>
        </p:blipFill>
        <p:spPr>
          <a:xfrm>
            <a:off x="0" y="-11160"/>
            <a:ext cx="666720" cy="7016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20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1DE7-8795-4C35-9F3B-B41136741C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19" descr="movi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08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Aft>
                <a:spcPts val="2001"/>
              </a:spcAft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09800" indent="328680">
              <a:spcAft>
                <a:spcPts val="2001"/>
              </a:spcAft>
              <a:buClr>
                <a:srgbClr val="006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83760" indent="493560"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877680" indent="-222480">
              <a:spcAft>
                <a:spcPts val="2001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4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1778400" y="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-1 The Nature of Mat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16" descr="arrow"/>
          <p:cNvPicPr/>
          <p:nvPr/>
        </p:nvPicPr>
        <p:blipFill>
          <a:blip r:embed="rId4"/>
          <a:stretch/>
        </p:blipFill>
        <p:spPr>
          <a:xfrm>
            <a:off x="457056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7" descr="logo_ph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20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1CDF-8583-4478-AE78-9B063E25B1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FBD0-7630-4084-B645-351FB8D58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58720" y="2593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and Molecular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can I find the number of prot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(atomic n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omic Number = The # of Pro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find the number of neutron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– 6 = 6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ic Mass – Atomic Number = The #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55680" y="3265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emical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emic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ubstance formed by the chemical combination of two or more elements in definite propor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6" descr="C:\Storage Area\Programs\350px-Water_molecule.svg.png"/>
          <p:cNvPicPr/>
          <p:nvPr/>
        </p:nvPicPr>
        <p:blipFill>
          <a:blip r:embed="rId1"/>
          <a:stretch/>
        </p:blipFill>
        <p:spPr>
          <a:xfrm>
            <a:off x="522360" y="2647800"/>
            <a:ext cx="3333600" cy="38102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7" descr=""/>
          <p:cNvPicPr/>
          <p:nvPr/>
        </p:nvPicPr>
        <p:blipFill>
          <a:blip r:embed="rId2"/>
          <a:srcRect l="2268" t="11262" r="3884" b="1726"/>
          <a:stretch/>
        </p:blipFill>
        <p:spPr>
          <a:xfrm>
            <a:off x="4797360" y="2908440"/>
            <a:ext cx="391644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hemical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sal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diox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68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formed from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bination of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lways formed in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xed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H3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oes 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CO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oes 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carbo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" descr="1222538604a9E3XL"/>
          <p:cNvPicPr/>
          <p:nvPr/>
        </p:nvPicPr>
        <p:blipFill>
          <a:blip r:embed="rId1"/>
          <a:stretch/>
        </p:blipFill>
        <p:spPr>
          <a:xfrm>
            <a:off x="5499000" y="1339920"/>
            <a:ext cx="323856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80960" y="904680"/>
            <a:ext cx="82296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s are chemically and physically different from the elements they are made fro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Water 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) has different properties than hydrogen (H) or oxygen (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Elements-Mixtures-Compounds_Atoms-Molecules"/>
          <p:cNvPicPr/>
          <p:nvPr/>
        </p:nvPicPr>
        <p:blipFill>
          <a:blip r:embed="rId1"/>
          <a:stretch/>
        </p:blipFill>
        <p:spPr>
          <a:xfrm>
            <a:off x="1654200" y="2733840"/>
            <a:ext cx="600696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185760" y="612720"/>
            <a:ext cx="488952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emical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toms in compounds are held together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s that are available to form bonds are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5" descr="C:\Storage Area\Programs\img018.gif"/>
          <p:cNvPicPr/>
          <p:nvPr/>
        </p:nvPicPr>
        <p:blipFill>
          <a:blip r:embed="rId1"/>
          <a:stretch/>
        </p:blipFill>
        <p:spPr>
          <a:xfrm>
            <a:off x="5581800" y="1974960"/>
            <a:ext cx="29048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 types of chemical bond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onic bo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valent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596880" y="47916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onic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of attraction between oppositely charged ions (atoms that gain or lose electrons); electron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er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e.g., Na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5" descr=""/>
          <p:cNvPicPr/>
          <p:nvPr/>
        </p:nvPicPr>
        <p:blipFill>
          <a:blip r:embed="rId1"/>
          <a:srcRect l="0" t="0" r="0" b="6769"/>
          <a:stretch/>
        </p:blipFill>
        <p:spPr>
          <a:xfrm>
            <a:off x="1203480" y="3021120"/>
            <a:ext cx="6927840" cy="26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492120" y="1654200"/>
            <a:ext cx="81043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for though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in biology class (the study of Life), so why is it important that we learn about atomic structure and water properties, when they are not li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7" descr="2-3c"/>
          <p:cNvPicPr/>
          <p:nvPr/>
        </p:nvPicPr>
        <p:blipFill>
          <a:blip r:embed="rId1"/>
          <a:stretch/>
        </p:blipFill>
        <p:spPr>
          <a:xfrm>
            <a:off x="4127400" y="2936880"/>
            <a:ext cx="182520" cy="182520"/>
          </a:xfrm>
          <a:prstGeom prst="rect">
            <a:avLst/>
          </a:prstGeom>
          <a:ln w="0">
            <a:noFill/>
          </a:ln>
        </p:spPr>
      </p:pic>
      <p:sp>
        <p:nvSpPr>
          <p:cNvPr id="463" name="Line 8"/>
          <p:cNvSpPr/>
          <p:nvPr/>
        </p:nvSpPr>
        <p:spPr>
          <a:xfrm>
            <a:off x="4361040" y="306216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9" descr="2-3b"/>
          <p:cNvPicPr/>
          <p:nvPr/>
        </p:nvPicPr>
        <p:blipFill>
          <a:blip r:embed="rId2"/>
          <a:stretch/>
        </p:blipFill>
        <p:spPr>
          <a:xfrm>
            <a:off x="1571760" y="693720"/>
            <a:ext cx="6330960" cy="47782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29"/>
          <p:cNvSpPr/>
          <p:nvPr/>
        </p:nvSpPr>
        <p:spPr>
          <a:xfrm>
            <a:off x="0" y="0"/>
            <a:ext cx="195732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81481E-006 L 0.07865 4.81481E-006 E">
                                      <p:cBhvr>
                                        <p:cTn id="48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272880" y="220320"/>
            <a:ext cx="8871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valent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bond formed when 2 atoms combine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electr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5" descr=""/>
          <p:cNvPicPr/>
          <p:nvPr/>
        </p:nvPicPr>
        <p:blipFill>
          <a:blip r:embed="rId1"/>
          <a:stretch/>
        </p:blipFill>
        <p:spPr>
          <a:xfrm>
            <a:off x="1547640" y="2368440"/>
            <a:ext cx="612648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436680" y="593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ucture that results when atoms are joined together by covalent bonds is called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lec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4" descr="sb4853f1"/>
          <p:cNvPicPr/>
          <p:nvPr/>
        </p:nvPicPr>
        <p:blipFill>
          <a:blip r:embed="rId1"/>
          <a:stretch/>
        </p:blipFill>
        <p:spPr>
          <a:xfrm>
            <a:off x="3133800" y="1996920"/>
            <a:ext cx="417348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138240" y="171360"/>
            <a:ext cx="854712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e more bond type…Van der Waals Fo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olecules are close together, a slight attraction can develop between the oppositely charged regions of nearby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4757760" y="2374920"/>
            <a:ext cx="372888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63520" y="820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re substance that is composed of only one type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There are 92 natural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Sodium (Na), Chlorine (Cl), Hydrogen (H), Lead (Pb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5" descr="periodic1"/>
          <p:cNvPicPr/>
          <p:nvPr/>
        </p:nvPicPr>
        <p:blipFill>
          <a:blip r:embed="rId1"/>
          <a:stretch/>
        </p:blipFill>
        <p:spPr>
          <a:xfrm>
            <a:off x="2967120" y="2994120"/>
            <a:ext cx="587052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282600" y="71568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unit of matter; smallest particl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with all properties of that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"/>
          <p:cNvPicPr/>
          <p:nvPr/>
        </p:nvPicPr>
        <p:blipFill>
          <a:blip r:embed="rId1"/>
          <a:stretch/>
        </p:blipFill>
        <p:spPr>
          <a:xfrm>
            <a:off x="4857840" y="3317760"/>
            <a:ext cx="3127320" cy="2810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C:\Storage Area\Programs\598px-Helium_atom_QM.svg.png"/>
          <p:cNvPicPr/>
          <p:nvPr/>
        </p:nvPicPr>
        <p:blipFill>
          <a:blip r:embed="rId2"/>
          <a:srcRect l="0" t="0" r="0" b="13694"/>
          <a:stretch/>
        </p:blipFill>
        <p:spPr>
          <a:xfrm>
            <a:off x="657360" y="3009960"/>
            <a:ext cx="405756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501120" y="0"/>
            <a:ext cx="864252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laced side by side, 100 million atoms would make a row only about 1 centimeter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conta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atomic partic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are even smal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6" descr=""/>
          <p:cNvPicPr/>
          <p:nvPr/>
        </p:nvPicPr>
        <p:blipFill>
          <a:blip r:embed="rId1"/>
          <a:stretch/>
        </p:blipFill>
        <p:spPr>
          <a:xfrm>
            <a:off x="4387680" y="2405160"/>
            <a:ext cx="28576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128520" y="275760"/>
            <a:ext cx="8871120" cy="35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batomic particles that make up atom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6" descr="C:\Storage Area\Programs\atom-bohr.gif"/>
          <p:cNvPicPr/>
          <p:nvPr/>
        </p:nvPicPr>
        <p:blipFill>
          <a:blip r:embed="rId1"/>
          <a:srcRect l="0" t="0" r="0" b="2791"/>
          <a:stretch/>
        </p:blipFill>
        <p:spPr>
          <a:xfrm>
            <a:off x="4378320" y="1366920"/>
            <a:ext cx="420696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222120" y="407880"/>
            <a:ext cx="3687840" cy="31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ns (+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vely charged particles in th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trons (0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utral particles (no charge) in th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ns (-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gatively charged particles outside th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sb4850f1"/>
          <p:cNvPicPr/>
          <p:nvPr/>
        </p:nvPicPr>
        <p:blipFill>
          <a:blip r:embed="rId1"/>
          <a:stretch/>
        </p:blipFill>
        <p:spPr>
          <a:xfrm>
            <a:off x="4792680" y="638280"/>
            <a:ext cx="370692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04640" y="1240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 of same element w/ different number of neutrons (e.g., carbon-12, carbon-13, carbon-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cisotopes"/>
          <p:cNvPicPr/>
          <p:nvPr/>
        </p:nvPicPr>
        <p:blipFill>
          <a:blip r:embed="rId1"/>
          <a:stretch/>
        </p:blipFill>
        <p:spPr>
          <a:xfrm>
            <a:off x="5483160" y="2673360"/>
            <a:ext cx="284184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An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9460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lmost all the mass of an atom is in the center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The mass of an atom can be calculated by adding the number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numb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t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(Atomic Mas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ns + Neutrons = Atomic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te</dc:creator>
  <dc:description/>
  <dc:language>en-US</dc:language>
  <cp:lastModifiedBy>Julia Glick</cp:lastModifiedBy>
  <dcterms:modified xsi:type="dcterms:W3CDTF">2015-07-26T01:33:55Z</dcterms:modified>
  <cp:revision>73</cp:revision>
  <dc:subject/>
  <dc:title>Biology</dc:title>
</cp:coreProperties>
</file>